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A08D-2D6D-467B-89CC-1C2B61C6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8A1F-AAC2-474C-9042-E7F48FAE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03D6-4C39-4D29-833D-1D5CBBAC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0110-E18A-409A-8174-D296CAD9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8263-E106-4971-9DD4-3858A0B2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B4BC-FCED-4010-90A4-4BB2129B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02F9-6280-4141-A550-CBB273A1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3E27-1370-4A62-8694-776CB31F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92FF-83AD-4444-A30E-82518443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2C3A-FC79-4CE9-AB20-6A4CD1CE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D721-7F19-4A4D-864A-31027149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996F-8743-43A7-BE0A-1A80CE22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5A8B-C936-4FBB-B886-EA8B63F8BF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Владелец\Desktop\УРОК 02.04.19\С система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Владелец\Desktop\УРОК 02.04.19\таблица.png"/>
          <p:cNvPicPr/>
          <p:nvPr/>
        </p:nvPicPr>
        <p:blipFill>
          <a:blip r:embed="rId1"/>
          <a:stretch/>
        </p:blipFill>
        <p:spPr>
          <a:xfrm>
            <a:off x="69840" y="428760"/>
            <a:ext cx="90741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с тела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кон Всемирного тягот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*m*M</a:t>
            </a:r>
            <a:r>
              <a:rPr b="1" lang="en-US" sz="8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R</a:t>
            </a:r>
            <a:r>
              <a:rPr b="1" lang="en-US" sz="8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5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с тела:</a:t>
            </a:r>
            <a:br>
              <a:rPr sz="4400"/>
            </a:b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br>
              <a:rPr sz="66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3143160"/>
            <a:ext cx="822960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скорение свободного пад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ru-RU" sz="6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л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6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6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0" y="1349280"/>
            <a:ext cx="89298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корение свободного падения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Е3: =$С$14*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3/(В3*В3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с тела: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F3: =Е3*70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rcRect l="0" t="0" r="56511" b="40830"/>
          <a:stretch/>
        </p:blipFill>
        <p:spPr>
          <a:xfrm>
            <a:off x="142920" y="214200"/>
            <a:ext cx="871524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"/>
          <p:cNvPicPr/>
          <p:nvPr/>
        </p:nvPicPr>
        <p:blipFill>
          <a:blip r:embed="rId1"/>
          <a:srcRect l="12351" t="10946" r="13334" b="0"/>
          <a:stretch/>
        </p:blipFill>
        <p:spPr>
          <a:xfrm>
            <a:off x="0" y="285840"/>
            <a:ext cx="90010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ладелец</dc:creator>
  <dc:description/>
  <dc:language>en-US</dc:language>
  <cp:lastModifiedBy>Владелец</cp:lastModifiedBy>
  <dcterms:modified xsi:type="dcterms:W3CDTF">2019-04-01T14:25:18Z</dcterms:modified>
  <cp:revision>7</cp:revision>
  <dc:subject/>
  <dc:title>Слайд 1</dc:title>
</cp:coreProperties>
</file>